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C23-2470-44D2-8346-D3C02B3A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A2C-7213-4EC6-806A-AC67A5CB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4DA-3173-41F8-A5A5-A4605B1C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847-3A5B-4B08-B26C-DDCCB23D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5D21-0AC7-46E1-ACFD-BB83E292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20C0-6E50-42CC-A304-89ACF30A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B5A-88E7-44F1-A8A7-03CF019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4BFD-B050-4704-BEA0-A5E3139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866C-6ACC-4724-82B9-045B198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B723-6C57-4C4E-8291-013CB2DC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034-0DF7-4A89-88FC-B5C38AD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402-2383-4294-A111-1026396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753-2BF1-4F55-8FC7-5423551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099-314C-47D3-A116-E123E65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5FE-D82C-4F73-9038-3CB9646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BBF2-2FF0-4431-A1F5-BA8E1F63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896-1D7A-42EB-9B24-382E18EB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F5D-05B6-42D3-A5B4-2B4D1FED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74C-48B6-4CE6-8EFD-BC5515D3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263-9347-43D9-8EDC-2987715C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888-090E-44F2-A94C-2DE5059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4F6-755A-46A3-9A12-9C9A552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50D-45FB-42BA-8273-F1A4360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868-E102-4D89-B927-A63CD7C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CEB-AB58-47E4-949C-065AECBD5FF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B943-6784-4175-8F19-C6C303E98FF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218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225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2438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8954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0.81 or 1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3526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8098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91040" y="42670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0120" y="4724280"/>
            <a:ext cx="1371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35.453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r 3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5638680"/>
            <a:ext cx="1066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4.003 or 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6:03Z</dcterms:modified>
  <cp:revision>6</cp:revision>
  <dc:subject/>
  <dc:title>Slide 1</dc:title>
</cp:coreProperties>
</file>